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FEA2-01F3-4F64-880E-0970D3C905F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88AA-A3EA-40C7-848A-03027FF2E04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A12D-C1B3-4343-A5DA-CCC087C6324E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B126-7202-4426-8876-FBB4FBA5FFA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1B30-224E-474D-9A10-A6FE865BC07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98032-FD95-4813-B0E6-0D76910BF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3796D-EF66-4E3B-BFED-0DFFE7B1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8FEEB-1EE6-4B69-BB90-D29A4D6F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4A749-FCF1-41BC-86D8-4E5D3F0D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0C2D0-708D-4988-85B5-235CC459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08F97-D6F3-47DB-93D6-D1E778E2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0E4C3-FF2D-4C83-80C6-96B21383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CA9B2-2C55-4DC1-A623-62E3938E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A7AB7-33A7-4A57-9789-FF7B7454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AE22A-92F5-465A-B3FA-1DCF9FD6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C3D82-80DA-41E1-BBB1-6234F4101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42012-B34A-45CC-87AB-45BA4E24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D41142-CD62-4920-8EF5-71D4C4FD2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9C97C1-84C4-4134-8E6B-361F724A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4050DA-4AA7-4078-B1E3-D99A05B6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76116A-244D-41BF-98C3-7C469189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018DB9-B991-44E7-88AF-78AF89A5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4FD533-69A6-49A9-AFCB-3295D285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48587B-CAEC-4DC7-A56C-0DE4EBB2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D24F37-D79B-4DA8-A3D2-BDCA0E0D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456E92-8D83-4B22-A3A3-5D0CD823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327CF0-6316-4407-971C-C5CB07CE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38B43D-B18D-40D1-BA56-BD2307CAE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465023-F2B3-4B8E-A6DB-018C86316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4E97-3536-4991-8B28-83C1E595168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31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467F-3FD1-4777-8CB1-41EF3B805375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8D9E-930D-4932-B8E7-7544C83F371E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A8CF-8514-499D-9054-646859081784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F26B-57EA-4770-AE6D-E6A734A1A61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6000" y="66027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B9E2-710B-440D-A0F3-489DF7533BA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3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34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5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6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7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38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0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44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EDF8-FBD3-4B31-ABF1-12E4EDB7CF21}" type="slidenum">
              <a:rPr b="0" lang="ko-KR" sz="1400" spc="-1" strike="noStrike">
                <a:solidFill>
                  <a:srgbClr val="1d528d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4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9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28760" y="2857680"/>
            <a:ext cx="85010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0</a:t>
            </a:r>
            <a:r>
              <a:rPr b="1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와 노인복지정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HY강B"/>
                <a:ea typeface="HY강B"/>
              </a:rPr>
              <a:t>11</a:t>
            </a:r>
            <a:r>
              <a:rPr b="1" lang="ko-KR" sz="4000" spc="-1" strike="noStrike">
                <a:solidFill>
                  <a:srgbClr val="ffff00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실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그룹 6"/>
          <p:cNvGrpSpPr/>
          <p:nvPr/>
        </p:nvGrpSpPr>
        <p:grpSpPr>
          <a:xfrm>
            <a:off x="285840" y="214200"/>
            <a:ext cx="8831160" cy="6143760"/>
            <a:chOff x="285840" y="214200"/>
            <a:chExt cx="8831160" cy="6143760"/>
          </a:xfrm>
        </p:grpSpPr>
        <p:pic>
          <p:nvPicPr>
            <p:cNvPr id="498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6643800" y="5143680"/>
              <a:ext cx="24732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AutoShape 2"/>
            <p:cNvSpPr/>
            <p:nvPr/>
          </p:nvSpPr>
          <p:spPr>
            <a:xfrm>
              <a:off x="285840" y="642600"/>
              <a:ext cx="8715600" cy="55724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0" name="그룹 10"/>
            <p:cNvGrpSpPr/>
            <p:nvPr/>
          </p:nvGrpSpPr>
          <p:grpSpPr>
            <a:xfrm>
              <a:off x="357120" y="214200"/>
              <a:ext cx="8572680" cy="5876640"/>
              <a:chOff x="357120" y="214200"/>
              <a:chExt cx="8572680" cy="5876640"/>
            </a:xfrm>
          </p:grpSpPr>
          <p:sp>
            <p:nvSpPr>
              <p:cNvPr id="501" name="AutoShape 4"/>
              <p:cNvSpPr/>
              <p:nvPr/>
            </p:nvSpPr>
            <p:spPr>
              <a:xfrm>
                <a:off x="357120" y="21420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고용보장의 문제점과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Text Box 6"/>
              <p:cNvSpPr/>
              <p:nvPr/>
            </p:nvSpPr>
            <p:spPr>
              <a:xfrm>
                <a:off x="428400" y="911160"/>
                <a:ext cx="8501400" cy="51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 고용차별 심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업의 구조조정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조기퇴직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 후 재고용 기회 제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년연장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등정년제도개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부분정년제 도입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 후 재고용 제도 강화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자 생활보장 대책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자 고용촉진법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용상 연령차별을 금지함에도 불구하고 노인 근로자 채용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연령별 기준고용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고용업체 지원 기준 완화 및 지원 수준 상향 조정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용기회 확대에만 초점을 둔 고용보장제도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동환경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적정 임금보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산업안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복지증진 노력 거의 없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용기회 확대와 함께 노동환경 개선 및 복지증진 정책 시행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취업지원 기관</a:t>
                </a:r>
                <a:r>
                  <a:rPr b="1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자리 참여노인에 대한 낮은 지원 수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취업지원센터 등에 설치비 운영비 지원 낮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일자리 및 사회활동 지원 사업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정상적 일자리 창출의 문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취업지원기관 지원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자리 참여기간과 급여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고용정보 제한과 직업능력 개발 프로그램 접근도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취업정보제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직업훈련기관 노인 기피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복지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민센터에서 취업정보센터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담당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운영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그룹 11"/>
          <p:cNvGrpSpPr/>
          <p:nvPr/>
        </p:nvGrpSpPr>
        <p:grpSpPr>
          <a:xfrm>
            <a:off x="0" y="0"/>
            <a:ext cx="9358200" cy="6472080"/>
            <a:chOff x="0" y="0"/>
            <a:chExt cx="9358200" cy="6472080"/>
          </a:xfrm>
        </p:grpSpPr>
        <p:sp>
          <p:nvSpPr>
            <p:cNvPr id="504" name="AutoShape 2"/>
            <p:cNvSpPr/>
            <p:nvPr/>
          </p:nvSpPr>
          <p:spPr>
            <a:xfrm>
              <a:off x="285480" y="1142640"/>
              <a:ext cx="8715600" cy="2214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0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5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500" spc="-1" strike="noStrike">
                  <a:solidFill>
                    <a:srgbClr val="ffffff"/>
                  </a:solidFill>
                  <a:latin typeface="HY강B"/>
                </a:rPr>
                <a:t>주거보장</a:t>
              </a:r>
              <a:endParaRPr b="0" lang="en-US" sz="3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07" name="그룹 10"/>
            <p:cNvGrpSpPr/>
            <p:nvPr/>
          </p:nvGrpSpPr>
          <p:grpSpPr>
            <a:xfrm>
              <a:off x="285480" y="785520"/>
              <a:ext cx="8572680" cy="2557800"/>
              <a:chOff x="285480" y="785520"/>
              <a:chExt cx="8572680" cy="2557800"/>
            </a:xfrm>
          </p:grpSpPr>
          <p:sp>
            <p:nvSpPr>
              <p:cNvPr id="508" name="AutoShape 4"/>
              <p:cNvSpPr/>
              <p:nvPr/>
            </p:nvSpPr>
            <p:spPr>
              <a:xfrm>
                <a:off x="356760" y="785520"/>
                <a:ext cx="381636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주거보장의 이해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9" name="Text Box 6"/>
              <p:cNvSpPr/>
              <p:nvPr/>
            </p:nvSpPr>
            <p:spPr>
              <a:xfrm>
                <a:off x="285480" y="1336320"/>
                <a:ext cx="8572680" cy="200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택보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의 건설과 공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와 관련된 서비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을 전제로 정주권 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소 거주면적의 확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주기회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등 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화의 실현을 목적으로 하는 노인에게 적합한 주거환경 조성 노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주거보장의 방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목적 주거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수당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료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수리 및 개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비 융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대료 및 재산세 변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영주택입주 우선권 부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보호목적 주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운영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10" name="AutoShape 2"/>
            <p:cNvSpPr/>
            <p:nvPr/>
          </p:nvSpPr>
          <p:spPr>
            <a:xfrm>
              <a:off x="285480" y="3785040"/>
              <a:ext cx="8715600" cy="26424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1" name="그룹 10"/>
            <p:cNvGrpSpPr/>
            <p:nvPr/>
          </p:nvGrpSpPr>
          <p:grpSpPr>
            <a:xfrm>
              <a:off x="285480" y="3428640"/>
              <a:ext cx="8572680" cy="3043440"/>
              <a:chOff x="285480" y="3428640"/>
              <a:chExt cx="8572680" cy="3043440"/>
            </a:xfrm>
          </p:grpSpPr>
          <p:sp>
            <p:nvSpPr>
              <p:cNvPr id="512" name="AutoShape 4"/>
              <p:cNvSpPr/>
              <p:nvPr/>
            </p:nvSpPr>
            <p:spPr>
              <a:xfrm>
                <a:off x="356760" y="3428640"/>
                <a:ext cx="381636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현행 주거보장 체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3" name="Text Box 6"/>
              <p:cNvSpPr/>
              <p:nvPr/>
            </p:nvSpPr>
            <p:spPr>
              <a:xfrm>
                <a:off x="285480" y="3999960"/>
                <a:ext cx="8572680" cy="24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에 치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소득 무주택 재가노인 주택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보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보장 업무 국토교통부에서 주관하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분야 연구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재가노인 주거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구임대아파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공동생활가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급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개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부양 자녀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거 세대주에 대한 주택자금할증융자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주택자녀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계존속 부양시 주택분양우선권 제도로 노인주거보장정책으로는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주택연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담보 노후생활자금 연금형태 지급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8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농지연금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소유농지 담보로 정액종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기간정액형 등 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가지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그룹 6"/>
          <p:cNvGrpSpPr/>
          <p:nvPr/>
        </p:nvGrpSpPr>
        <p:grpSpPr>
          <a:xfrm>
            <a:off x="285840" y="142920"/>
            <a:ext cx="8715240" cy="6215040"/>
            <a:chOff x="285840" y="142920"/>
            <a:chExt cx="8715240" cy="6215040"/>
          </a:xfrm>
        </p:grpSpPr>
        <p:pic>
          <p:nvPicPr>
            <p:cNvPr id="515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6500880" y="4857840"/>
              <a:ext cx="2473200" cy="142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AutoShape 2"/>
            <p:cNvSpPr/>
            <p:nvPr/>
          </p:nvSpPr>
          <p:spPr>
            <a:xfrm>
              <a:off x="285840" y="571320"/>
              <a:ext cx="871524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17" name="그룹 10"/>
            <p:cNvGrpSpPr/>
            <p:nvPr/>
          </p:nvGrpSpPr>
          <p:grpSpPr>
            <a:xfrm>
              <a:off x="357120" y="142920"/>
              <a:ext cx="8572680" cy="6049080"/>
              <a:chOff x="357120" y="142920"/>
              <a:chExt cx="8572680" cy="6049080"/>
            </a:xfrm>
          </p:grpSpPr>
          <p:sp>
            <p:nvSpPr>
              <p:cNvPr id="518" name="AutoShape 4"/>
              <p:cNvSpPr/>
              <p:nvPr/>
            </p:nvSpPr>
            <p:spPr>
              <a:xfrm>
                <a:off x="357120" y="142920"/>
                <a:ext cx="514368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주거보장의 문제점과 과제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428400" y="839520"/>
                <a:ext cx="8501400" cy="535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보장에 치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무주택 노인과 부양자녀 주택공급에 치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계획주거 인식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 적합주택 개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급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택개조비 지원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급여 수급자격 완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주택 노인을 위한 주거지원정책 부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임대주택공급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집단가정이 전부이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반 무주택 노인 임대료 지원 없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반 무주택 노인 임대료 보조와 할인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산세 면제 등 지원책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전용주거시설 공급 제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장기요양보험제도의 시행으로 중증환자 위주로 시설 입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하고 여유 있는 노인을 위한 노인전용 주거시설 확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단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전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공간 설치 운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시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점과 개선방안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장에서 이미 논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주거보장 관련 연구 부족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축학 등 산발적 연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다분야의 구체적이고 다양한 연구 활성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그룹 12"/>
          <p:cNvGrpSpPr/>
          <p:nvPr/>
        </p:nvGrpSpPr>
        <p:grpSpPr>
          <a:xfrm>
            <a:off x="0" y="0"/>
            <a:ext cx="9358200" cy="6429240"/>
            <a:chOff x="0" y="0"/>
            <a:chExt cx="9358200" cy="6429240"/>
          </a:xfrm>
        </p:grpSpPr>
        <p:sp>
          <p:nvSpPr>
            <p:cNvPr id="521" name="AutoShape 2"/>
            <p:cNvSpPr/>
            <p:nvPr/>
          </p:nvSpPr>
          <p:spPr>
            <a:xfrm>
              <a:off x="428400" y="1143000"/>
              <a:ext cx="842976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22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건강보장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4" name="AutoShape 2"/>
            <p:cNvSpPr/>
            <p:nvPr/>
          </p:nvSpPr>
          <p:spPr>
            <a:xfrm>
              <a:off x="428400" y="3959280"/>
              <a:ext cx="8429760" cy="2469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5" name="AutoShape 4"/>
            <p:cNvSpPr/>
            <p:nvPr/>
          </p:nvSpPr>
          <p:spPr>
            <a:xfrm>
              <a:off x="428400" y="785520"/>
              <a:ext cx="371484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건강보장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6" name="Text Box 6"/>
            <p:cNvSpPr/>
            <p:nvPr/>
          </p:nvSpPr>
          <p:spPr>
            <a:xfrm>
              <a:off x="500040" y="3959280"/>
              <a:ext cx="8501040" cy="24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해 등으로 소요되는 비용이나 수입감사에 대한 보상을 목적으로 하는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험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무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직장의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77)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의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81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국민건강보험제도로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통합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1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요내용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9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건강보험 이용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당 진료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8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천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수진율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당 진료일수와 진료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내원일수 등의 주요 지표 지속 증가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의료비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2005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556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→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1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4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5,64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의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8.0%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7" name="직사각형 11"/>
            <p:cNvSpPr/>
            <p:nvPr/>
          </p:nvSpPr>
          <p:spPr>
            <a:xfrm>
              <a:off x="428400" y="36432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국민건강보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8" name="Text Box 6"/>
            <p:cNvSpPr/>
            <p:nvPr/>
          </p:nvSpPr>
          <p:spPr>
            <a:xfrm>
              <a:off x="428400" y="1214280"/>
              <a:ext cx="8429760" cy="18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보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medical care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 용어가 사용되지만 질병치료 등의 소극적 의미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험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처럼 건강보장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health care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라는 용어가 타당함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상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망 등의 요인으로 인한 생활불안을 예방하거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미 발생한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의 치료와 신체 및 정신적 건강생활을 유지할 수  있도록 국가가 개입하여 보장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해주는 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방법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급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공적 부조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+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장기요양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29" name="AutoShape 4"/>
            <p:cNvSpPr/>
            <p:nvPr/>
          </p:nvSpPr>
          <p:spPr>
            <a:xfrm>
              <a:off x="428400" y="3214800"/>
              <a:ext cx="3714840" cy="360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현행 건강보장 체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그룹 7"/>
          <p:cNvGrpSpPr/>
          <p:nvPr/>
        </p:nvGrpSpPr>
        <p:grpSpPr>
          <a:xfrm>
            <a:off x="428760" y="58680"/>
            <a:ext cx="8572320" cy="6370560"/>
            <a:chOff x="428760" y="58680"/>
            <a:chExt cx="8572320" cy="6370560"/>
          </a:xfrm>
        </p:grpSpPr>
        <p:sp>
          <p:nvSpPr>
            <p:cNvPr id="531" name="AutoShape 2"/>
            <p:cNvSpPr/>
            <p:nvPr/>
          </p:nvSpPr>
          <p:spPr>
            <a:xfrm>
              <a:off x="428760" y="387000"/>
              <a:ext cx="8429760" cy="1326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2" name="Text Box 6"/>
            <p:cNvSpPr/>
            <p:nvPr/>
          </p:nvSpPr>
          <p:spPr>
            <a:xfrm>
              <a:off x="500040" y="387000"/>
              <a:ext cx="8501040" cy="13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저소득 국민에 대해 국가재정으로 의료문제 해결 보장제도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보호제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979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의료급여제도로 전환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본인부담 도입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외래진료 본인부담액</a:t>
              </a:r>
              <a:r>
                <a:rPr b="0" lang="en-US" sz="17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원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,0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약국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5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-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병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,500-2,500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1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67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여명에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,354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억원 급여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당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651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체 급여의 </a:t>
              </a:r>
              <a:r>
                <a:rPr b="0" lang="en-US" sz="17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4.7%)</a:t>
              </a:r>
              <a:endParaRPr b="0" lang="en-US" sz="17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3" name="직사각형 3"/>
            <p:cNvSpPr/>
            <p:nvPr/>
          </p:nvSpPr>
          <p:spPr>
            <a:xfrm>
              <a:off x="428760" y="5868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의료급여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4" name="AutoShape 2"/>
            <p:cNvSpPr/>
            <p:nvPr/>
          </p:nvSpPr>
          <p:spPr>
            <a:xfrm>
              <a:off x="428760" y="2130120"/>
              <a:ext cx="8429760" cy="4299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5" name="Text Box 6"/>
            <p:cNvSpPr/>
            <p:nvPr/>
          </p:nvSpPr>
          <p:spPr>
            <a:xfrm>
              <a:off x="500040" y="2196720"/>
              <a:ext cx="8459640" cy="41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201"/>
                </a:spcBef>
                <a:buSzPct val="10283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건강진단사업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83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급여수급자 노인 중 희망자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1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진단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2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항목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2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검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30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항목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.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생애전환기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6,40,66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검진과 연계 시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실명예방사업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03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실명예방재단 주관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백내장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망막질환 개안수술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기초수급자 등에 한해 본인부담금 전액 지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무릎인공관절 수술 지원사업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60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기초수급자 등에 검사비 등 최대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20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원 지원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안심센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담 및 등록관리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조기검진 및 예빵괸리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환자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쉼터운영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가족 지원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인식개선 및 교육홍보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노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성년후견사업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치매안심센터 운영실적관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운영모델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10.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조직구성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2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201"/>
                </a:spcBef>
                <a:buClr>
                  <a:srgbClr val="181373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검진사업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선별검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1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계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＋진단검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계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＋감별검사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3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계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용지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Clr>
                  <a:srgbClr val="af334e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치매치료관리비 지원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저소득 치매노인 약제 및 진료비 연 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36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만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Clr>
                  <a:srgbClr val="af334e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실종노인 발생예방 및 찾기사업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배회가능 노인 인식표 배부사업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Clr>
                  <a:srgbClr val="af334e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공립치매요양병원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료법 제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3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조 의거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98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비비 지원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Clr>
                  <a:srgbClr val="af334e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경로식당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99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시행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60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결식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Clr>
                  <a:srgbClr val="181373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결식노인 무료급식사업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식사배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: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첫 지원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65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세 이상 저소득노인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1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 </a:t>
              </a:r>
              <a:r>
                <a:rPr b="0" lang="en-US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</a:t>
              </a:r>
              <a:r>
                <a:rPr b="0" lang="ko-KR" sz="16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만명 이용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spcBef>
                  <a:spcPts val="601"/>
                </a:spcBef>
                <a:buSzPct val="10283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관 등의 영양개선 및 운동관리프로그램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건보공단의 경로당 등의 노인운동지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6" name="직사각형 6"/>
            <p:cNvSpPr/>
            <p:nvPr/>
          </p:nvSpPr>
          <p:spPr>
            <a:xfrm>
              <a:off x="428760" y="178560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노인건강지원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그룹 8"/>
          <p:cNvGrpSpPr/>
          <p:nvPr/>
        </p:nvGrpSpPr>
        <p:grpSpPr>
          <a:xfrm>
            <a:off x="428760" y="500040"/>
            <a:ext cx="8572320" cy="5429160"/>
            <a:chOff x="428760" y="500040"/>
            <a:chExt cx="8572320" cy="5429160"/>
          </a:xfrm>
        </p:grpSpPr>
        <p:grpSp>
          <p:nvGrpSpPr>
            <p:cNvPr id="538" name="그룹 6"/>
            <p:cNvGrpSpPr/>
            <p:nvPr/>
          </p:nvGrpSpPr>
          <p:grpSpPr>
            <a:xfrm>
              <a:off x="428760" y="500040"/>
              <a:ext cx="8572320" cy="1214280"/>
              <a:chOff x="428760" y="500040"/>
              <a:chExt cx="8572320" cy="1214280"/>
            </a:xfrm>
          </p:grpSpPr>
          <p:sp>
            <p:nvSpPr>
              <p:cNvPr id="539" name="AutoShape 2"/>
              <p:cNvSpPr/>
              <p:nvPr/>
            </p:nvSpPr>
            <p:spPr>
              <a:xfrm>
                <a:off x="428760" y="887400"/>
                <a:ext cx="8429760" cy="826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0" name="Text Box 6"/>
              <p:cNvSpPr/>
              <p:nvPr/>
            </p:nvSpPr>
            <p:spPr>
              <a:xfrm>
                <a:off x="500040" y="898560"/>
                <a:ext cx="8501040" cy="6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책방향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매장 억제 및 화장 등의 장려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민인식개선 통한 장사문화개선 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황과 문제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7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률 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83%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화장시설 부족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사서비스 불친절</a:t>
                </a:r>
                <a:r>
                  <a:rPr b="0" lang="en-US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7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사시설 설치 반대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41" name="직사각형 3"/>
              <p:cNvSpPr/>
              <p:nvPr/>
            </p:nvSpPr>
            <p:spPr>
              <a:xfrm>
                <a:off x="428760" y="500040"/>
                <a:ext cx="621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장사서비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42" name="AutoShape 2"/>
            <p:cNvSpPr/>
            <p:nvPr/>
          </p:nvSpPr>
          <p:spPr>
            <a:xfrm>
              <a:off x="428760" y="2714400"/>
              <a:ext cx="842976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0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부터 정책과제로 검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간의 시범사업 실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장기요양보험법의 제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7. 4.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을 통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8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부터 시행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민연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산재보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고용보험에 이은 다섯번째 사회보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성 질환 등으로 일상생활을 혼자서 수행하기 어려운 노인에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이나 시설에서 요양서비스를 제공하여 노후의 건강증진 및 생활안정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도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부양가족의 부양부담 경감을 도모하는 사회보험제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의 치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cure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보다는 중증환자의 요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care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 중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질병 시에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험의 적용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3" name="AutoShape 4"/>
            <p:cNvSpPr/>
            <p:nvPr/>
          </p:nvSpPr>
          <p:spPr>
            <a:xfrm>
              <a:off x="428760" y="2071440"/>
              <a:ext cx="371448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노인장기요양보험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그룹 7"/>
          <p:cNvGrpSpPr/>
          <p:nvPr/>
        </p:nvGrpSpPr>
        <p:grpSpPr>
          <a:xfrm>
            <a:off x="214200" y="214200"/>
            <a:ext cx="8858520" cy="6015240"/>
            <a:chOff x="214200" y="214200"/>
            <a:chExt cx="8858520" cy="6015240"/>
          </a:xfrm>
        </p:grpSpPr>
        <p:sp>
          <p:nvSpPr>
            <p:cNvPr id="545" name="AutoShape 2"/>
            <p:cNvSpPr/>
            <p:nvPr/>
          </p:nvSpPr>
          <p:spPr>
            <a:xfrm>
              <a:off x="214200" y="3000240"/>
              <a:ext cx="8787240" cy="32148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AutoShape 2"/>
            <p:cNvSpPr/>
            <p:nvPr/>
          </p:nvSpPr>
          <p:spPr>
            <a:xfrm>
              <a:off x="214200" y="642600"/>
              <a:ext cx="87872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7" name="Text Box 6"/>
            <p:cNvSpPr/>
            <p:nvPr/>
          </p:nvSpPr>
          <p:spPr>
            <a:xfrm>
              <a:off x="285480" y="649440"/>
              <a:ext cx="8787240" cy="17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적용대상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전국민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장기요양보험 가입자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+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의료급여 수급자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급여대상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등급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-5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지지원등급을 받은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65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세 이상 노인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64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세 이하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성 질환자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en-US" sz="20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표 </a:t>
              </a:r>
              <a:r>
                <a:rPr b="0" lang="en-US" sz="20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1-11 </a:t>
              </a:r>
              <a:r>
                <a:rPr b="0" lang="ko-KR" sz="20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참조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, 2019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월 현재 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65+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구의 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9%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가</a:t>
              </a: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장기요양 등급 인정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8" name="직사각형 3"/>
            <p:cNvSpPr/>
            <p:nvPr/>
          </p:nvSpPr>
          <p:spPr>
            <a:xfrm>
              <a:off x="285480" y="214200"/>
              <a:ext cx="6215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대상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직사각형 4"/>
            <p:cNvSpPr/>
            <p:nvPr/>
          </p:nvSpPr>
          <p:spPr>
            <a:xfrm>
              <a:off x="285480" y="2574720"/>
              <a:ext cx="6215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인정 및 이용절차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Text Box 6"/>
            <p:cNvSpPr/>
            <p:nvPr/>
          </p:nvSpPr>
          <p:spPr>
            <a:xfrm>
              <a:off x="285480" y="3087360"/>
              <a:ext cx="8787240" cy="31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인정 신청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민건강보험 지사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인정신청서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의사소견서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인정 조사항목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2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인정 판정절차와 등급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1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 방문조사결과 입력하여 장기요양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인정점수 산출 </a:t>
              </a:r>
              <a:r>
                <a:rPr b="0" lang="en-US" sz="2000" spc="-1" strike="noStrike">
                  <a:solidFill>
                    <a:srgbClr val="163e6a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 장기요양등급판정위원회에서 심사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13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판정 수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0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이내 장기요양인정서와 표준장기요양이용계획서를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통지하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1-5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또는 인지지원등급은 재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/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서비스 신청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계약 이용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보험 이용절차 및 관리운영체계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3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그룹 5"/>
          <p:cNvGrpSpPr/>
          <p:nvPr/>
        </p:nvGrpSpPr>
        <p:grpSpPr>
          <a:xfrm>
            <a:off x="214200" y="360360"/>
            <a:ext cx="8786880" cy="5854680"/>
            <a:chOff x="214200" y="360360"/>
            <a:chExt cx="8786880" cy="5854680"/>
          </a:xfrm>
        </p:grpSpPr>
        <p:sp>
          <p:nvSpPr>
            <p:cNvPr id="552" name="AutoShape 2"/>
            <p:cNvSpPr/>
            <p:nvPr/>
          </p:nvSpPr>
          <p:spPr>
            <a:xfrm>
              <a:off x="214200" y="785520"/>
              <a:ext cx="878688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Text Box 6"/>
            <p:cNvSpPr/>
            <p:nvPr/>
          </p:nvSpPr>
          <p:spPr>
            <a:xfrm>
              <a:off x="285480" y="928440"/>
              <a:ext cx="8572680" cy="48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재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보험료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국가부담금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보험료 예상수입액의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0%)+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수급권자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본인부담금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보험료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위원회에서 결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2012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년 건강보험료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×6.55%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건강보험료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통합 납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본인부담금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재가급여는 비용의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5%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급여는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0%.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단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기초수급권자는 면제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의료급여 수급자와 건보료 순위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0-60%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감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비급여 항목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식사재료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이미용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상급침실 이용비 등은 전액 본인 부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급여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설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과 시설종류에 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51,820-69,15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제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 참조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특별현금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가족요양비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월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5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요양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간에 따라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4,12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-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53,94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주야간보호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과 시간에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29,160-56,89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단기보호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9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이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에 따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5,140-55,71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목욕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차량이용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72,54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미이용시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40,84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방문간호서비스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시간에 따라 회당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5,230-53,17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복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용구 급여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연간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6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만원 이내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63e6a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재가급여 월한도액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,456,4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3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1,240,7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5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등급 </a:t>
              </a:r>
              <a:r>
                <a:rPr b="0" lang="en-US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980,800</a:t>
              </a:r>
              <a:r>
                <a:rPr b="0" lang="ko-KR" sz="18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원이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직사각형 4"/>
            <p:cNvSpPr/>
            <p:nvPr/>
          </p:nvSpPr>
          <p:spPr>
            <a:xfrm>
              <a:off x="285480" y="3603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재정 및 급여</a:t>
              </a: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그룹 4"/>
          <p:cNvGrpSpPr/>
          <p:nvPr/>
        </p:nvGrpSpPr>
        <p:grpSpPr>
          <a:xfrm>
            <a:off x="142920" y="357120"/>
            <a:ext cx="8786880" cy="5786640"/>
            <a:chOff x="142920" y="357120"/>
            <a:chExt cx="8786880" cy="5786640"/>
          </a:xfrm>
        </p:grpSpPr>
        <p:sp>
          <p:nvSpPr>
            <p:cNvPr id="556" name="AutoShape 2"/>
            <p:cNvSpPr/>
            <p:nvPr/>
          </p:nvSpPr>
          <p:spPr>
            <a:xfrm>
              <a:off x="142920" y="785520"/>
              <a:ext cx="8786880" cy="5358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7" name="Text Box 6"/>
            <p:cNvSpPr/>
            <p:nvPr/>
          </p:nvSpPr>
          <p:spPr>
            <a:xfrm>
              <a:off x="285480" y="1152360"/>
              <a:ext cx="8572680" cy="46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중앙 및 지방정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건강보험공단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의 역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3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기존 노인복지법에 의해 설립된 재가 및 의료복지시설은 시군구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 받아야 하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장기요양보험법에 의거 설치된 기관은 별도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절차가 필요 없으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 지정을 받지 않으면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급여 청구 못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3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의 폐업 또는 휴업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예정일 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30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일 전까지 건강보험공단에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신고서 제출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기관 지정 기준 부적합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노인 학대 등을 이유로 시군구청장은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경고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영업정지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폐쇄명령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지정취소 등의 조치 취함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장기요양요원은 요양보호사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간호사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간호조무사 및 치과위생사 등의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   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자격을 갖추어야 하며</a:t>
              </a:r>
              <a:r>
                <a:rPr b="0" lang="en-US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63e6a"/>
                  </a:solidFill>
                  <a:latin typeface="HY강M"/>
                  <a:ea typeface="HY강M"/>
                </a:rPr>
                <a:t>요양보호사 교육과정은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제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7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장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절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c00000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8" name="직사각형 6"/>
            <p:cNvSpPr/>
            <p:nvPr/>
          </p:nvSpPr>
          <p:spPr>
            <a:xfrm>
              <a:off x="285480" y="357120"/>
              <a:ext cx="62150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5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500" spc="-1" strike="noStrike">
                  <a:solidFill>
                    <a:srgbClr val="c00000"/>
                  </a:solidFill>
                  <a:latin typeface="Arial"/>
                </a:rPr>
                <a:t>관리운영체계</a:t>
              </a:r>
              <a:r>
                <a:rPr b="0" lang="en-US" sz="25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그룹 6"/>
          <p:cNvGrpSpPr/>
          <p:nvPr/>
        </p:nvGrpSpPr>
        <p:grpSpPr>
          <a:xfrm>
            <a:off x="285840" y="71280"/>
            <a:ext cx="8858160" cy="6357960"/>
            <a:chOff x="285840" y="71280"/>
            <a:chExt cx="8858160" cy="6357960"/>
          </a:xfrm>
        </p:grpSpPr>
        <p:sp>
          <p:nvSpPr>
            <p:cNvPr id="560" name="AutoShape 2"/>
            <p:cNvSpPr/>
            <p:nvPr/>
          </p:nvSpPr>
          <p:spPr>
            <a:xfrm>
              <a:off x="285840" y="499680"/>
              <a:ext cx="8715600" cy="5929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1" name="AutoShape 4"/>
            <p:cNvSpPr/>
            <p:nvPr/>
          </p:nvSpPr>
          <p:spPr>
            <a:xfrm>
              <a:off x="357120" y="71280"/>
              <a:ext cx="54007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건강보장의 문제점과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2" name="Text Box 6"/>
            <p:cNvSpPr/>
            <p:nvPr/>
          </p:nvSpPr>
          <p:spPr>
            <a:xfrm>
              <a:off x="428400" y="714240"/>
              <a:ext cx="8715600" cy="56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료비 증가로 인한 국가재정 위기 가능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료이용 증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험수가 인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병원비용 증가 등으로 인한 노인의료비 급격한 증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인 건강증진 및 예방사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본인부담금 할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입원 억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보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가개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료시설과 서비스에 대한 감독 강화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강보호시설 접근성의 차별문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건의료기관 도시집중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농촌 순회 진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건소 기능강화 등 공공보건체계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시설 및 재가노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기관 확대 설치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건강지원사업의 실효성 문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진단 저소득 노인에 국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치매상담센터 운영비 지원부족 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진단 수준 향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문인력 확보와 운영비 지원 확대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치매</a:t>
              </a:r>
              <a:r>
                <a:rPr b="1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증질환 노인가족에 대한 지원 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 환자의 치료와 보호에 치중된 건강보장 체계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가족 건강지원서비스 강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증환자 가족 부양수당 지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장기요양보험제도의 문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시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 체계 미구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단기교육 인력활용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등급판정의 공정성 문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장기요양요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의 노동조건 악화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일부 기관의 부당청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돌봄서비스와 주거복지시설 연계 미흡 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시행 초기 제도상의 문제점 지속 보완 필요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40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03" name="Line 9"/>
          <p:cNvSpPr/>
          <p:nvPr/>
        </p:nvSpPr>
        <p:spPr>
          <a:xfrm flipV="1">
            <a:off x="0" y="2928600"/>
            <a:ext cx="1000080" cy="10717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V="1">
            <a:off x="0" y="397512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0" y="4000680"/>
            <a:ext cx="857160" cy="1935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Line 64"/>
          <p:cNvSpPr/>
          <p:nvPr/>
        </p:nvSpPr>
        <p:spPr>
          <a:xfrm>
            <a:off x="0" y="3994200"/>
            <a:ext cx="857160" cy="934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 flipV="1">
            <a:off x="0" y="2214720"/>
            <a:ext cx="928800" cy="16365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08" name="Group 44"/>
          <p:cNvGrpSpPr/>
          <p:nvPr/>
        </p:nvGrpSpPr>
        <p:grpSpPr>
          <a:xfrm>
            <a:off x="642960" y="1824120"/>
            <a:ext cx="8199360" cy="4458600"/>
            <a:chOff x="642960" y="1824120"/>
            <a:chExt cx="8199360" cy="4458600"/>
          </a:xfrm>
        </p:grpSpPr>
        <p:sp>
          <p:nvSpPr>
            <p:cNvPr id="409" name="AutoShape 4"/>
            <p:cNvSpPr/>
            <p:nvPr/>
          </p:nvSpPr>
          <p:spPr>
            <a:xfrm>
              <a:off x="1622520" y="1824120"/>
              <a:ext cx="7199280" cy="670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소득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10" name="Group 14"/>
            <p:cNvGrpSpPr/>
            <p:nvPr/>
          </p:nvGrpSpPr>
          <p:grpSpPr>
            <a:xfrm>
              <a:off x="642960" y="1840320"/>
              <a:ext cx="856800" cy="714600"/>
              <a:chOff x="642960" y="1840320"/>
              <a:chExt cx="856800" cy="714600"/>
            </a:xfrm>
          </p:grpSpPr>
          <p:sp>
            <p:nvSpPr>
              <p:cNvPr id="411" name="Oval 15"/>
              <p:cNvSpPr/>
              <p:nvPr/>
            </p:nvSpPr>
            <p:spPr>
              <a:xfrm>
                <a:off x="664200" y="1840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64200" y="18424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18468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Text Box 18"/>
              <p:cNvSpPr/>
              <p:nvPr/>
            </p:nvSpPr>
            <p:spPr>
              <a:xfrm>
                <a:off x="642960" y="184860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4"/>
            <p:cNvGrpSpPr/>
            <p:nvPr/>
          </p:nvGrpSpPr>
          <p:grpSpPr>
            <a:xfrm>
              <a:off x="642960" y="2777040"/>
              <a:ext cx="856800" cy="714600"/>
              <a:chOff x="642960" y="2777040"/>
              <a:chExt cx="856800" cy="714600"/>
            </a:xfrm>
          </p:grpSpPr>
          <p:sp>
            <p:nvSpPr>
              <p:cNvPr id="416" name="Oval 15"/>
              <p:cNvSpPr/>
              <p:nvPr/>
            </p:nvSpPr>
            <p:spPr>
              <a:xfrm>
                <a:off x="664200" y="27770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17" name="Oval 16"/>
              <p:cNvSpPr/>
              <p:nvPr/>
            </p:nvSpPr>
            <p:spPr>
              <a:xfrm>
                <a:off x="664200" y="277920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1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27835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Text Box 18"/>
              <p:cNvSpPr/>
              <p:nvPr/>
            </p:nvSpPr>
            <p:spPr>
              <a:xfrm>
                <a:off x="642960" y="27835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4"/>
            <p:cNvGrpSpPr/>
            <p:nvPr/>
          </p:nvGrpSpPr>
          <p:grpSpPr>
            <a:xfrm>
              <a:off x="642960" y="3715200"/>
              <a:ext cx="856800" cy="714600"/>
              <a:chOff x="642960" y="3715200"/>
              <a:chExt cx="856800" cy="714600"/>
            </a:xfrm>
          </p:grpSpPr>
          <p:sp>
            <p:nvSpPr>
              <p:cNvPr id="421" name="Oval 15"/>
              <p:cNvSpPr/>
              <p:nvPr/>
            </p:nvSpPr>
            <p:spPr>
              <a:xfrm>
                <a:off x="664200" y="37152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2" name="Oval 16"/>
              <p:cNvSpPr/>
              <p:nvPr/>
            </p:nvSpPr>
            <p:spPr>
              <a:xfrm>
                <a:off x="664200" y="371736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7216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Text Box 18"/>
              <p:cNvSpPr/>
              <p:nvPr/>
            </p:nvSpPr>
            <p:spPr>
              <a:xfrm>
                <a:off x="642960" y="37191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14"/>
            <p:cNvGrpSpPr/>
            <p:nvPr/>
          </p:nvGrpSpPr>
          <p:grpSpPr>
            <a:xfrm>
              <a:off x="642960" y="4651920"/>
              <a:ext cx="856800" cy="714960"/>
              <a:chOff x="642960" y="4651920"/>
              <a:chExt cx="856800" cy="714960"/>
            </a:xfrm>
          </p:grpSpPr>
          <p:sp>
            <p:nvSpPr>
              <p:cNvPr id="426" name="Oval 15"/>
              <p:cNvSpPr/>
              <p:nvPr/>
            </p:nvSpPr>
            <p:spPr>
              <a:xfrm>
                <a:off x="664200" y="465192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27" name="Oval 16"/>
              <p:cNvSpPr/>
              <p:nvPr/>
            </p:nvSpPr>
            <p:spPr>
              <a:xfrm>
                <a:off x="664200" y="465408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2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65840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18"/>
              <p:cNvSpPr/>
              <p:nvPr/>
            </p:nvSpPr>
            <p:spPr>
              <a:xfrm>
                <a:off x="642960" y="46558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4"/>
            <p:cNvGrpSpPr/>
            <p:nvPr/>
          </p:nvGrpSpPr>
          <p:grpSpPr>
            <a:xfrm>
              <a:off x="642960" y="5568120"/>
              <a:ext cx="856800" cy="714600"/>
              <a:chOff x="642960" y="5568120"/>
              <a:chExt cx="856800" cy="714600"/>
            </a:xfrm>
          </p:grpSpPr>
          <p:sp>
            <p:nvSpPr>
              <p:cNvPr id="431" name="Oval 15"/>
              <p:cNvSpPr/>
              <p:nvPr/>
            </p:nvSpPr>
            <p:spPr>
              <a:xfrm>
                <a:off x="664200" y="55681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32" name="Oval 16"/>
              <p:cNvSpPr/>
              <p:nvPr/>
            </p:nvSpPr>
            <p:spPr>
              <a:xfrm>
                <a:off x="664200" y="5570280"/>
                <a:ext cx="777600" cy="7124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43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713160" y="55746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Text Box 18"/>
              <p:cNvSpPr/>
              <p:nvPr/>
            </p:nvSpPr>
            <p:spPr>
              <a:xfrm>
                <a:off x="642960" y="55720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35" name="AutoShape 4"/>
            <p:cNvSpPr/>
            <p:nvPr/>
          </p:nvSpPr>
          <p:spPr>
            <a:xfrm>
              <a:off x="1643040" y="276048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고용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6" name="AutoShape 4"/>
            <p:cNvSpPr/>
            <p:nvPr/>
          </p:nvSpPr>
          <p:spPr>
            <a:xfrm>
              <a:off x="1622520" y="369720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주거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1643040" y="463428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건강보장제도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AutoShape 4"/>
            <p:cNvSpPr/>
            <p:nvPr/>
          </p:nvSpPr>
          <p:spPr>
            <a:xfrm>
              <a:off x="1643040" y="5571000"/>
              <a:ext cx="7199280" cy="6778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사회서비스의 개념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황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문제점과 과제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9" name="AutoShape 7"/>
          <p:cNvSpPr/>
          <p:nvPr/>
        </p:nvSpPr>
        <p:spPr>
          <a:xfrm>
            <a:off x="250920" y="1211400"/>
            <a:ext cx="1606320" cy="43164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57200" y="274680"/>
            <a:ext cx="7858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11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800" spc="-1" strike="noStrike">
              <a:solidFill>
                <a:srgbClr val="ffffff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그룹 6"/>
          <p:cNvGrpSpPr/>
          <p:nvPr/>
        </p:nvGrpSpPr>
        <p:grpSpPr>
          <a:xfrm>
            <a:off x="0" y="0"/>
            <a:ext cx="9358200" cy="6286680"/>
            <a:chOff x="0" y="0"/>
            <a:chExt cx="9358200" cy="6286680"/>
          </a:xfrm>
        </p:grpSpPr>
        <p:sp>
          <p:nvSpPr>
            <p:cNvPr id="564" name="AutoShape 2"/>
            <p:cNvSpPr/>
            <p:nvPr/>
          </p:nvSpPr>
          <p:spPr>
            <a:xfrm>
              <a:off x="285480" y="1571760"/>
              <a:ext cx="8572680" cy="4714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6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사회서비스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7" name="AutoShape 4"/>
            <p:cNvSpPr/>
            <p:nvPr/>
          </p:nvSpPr>
          <p:spPr>
            <a:xfrm>
              <a:off x="428400" y="928440"/>
              <a:ext cx="364320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사회서비스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8" name="Text Box 6"/>
            <p:cNvSpPr/>
            <p:nvPr/>
          </p:nvSpPr>
          <p:spPr>
            <a:xfrm>
              <a:off x="428400" y="1643040"/>
              <a:ext cx="8358120" cy="45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심리사회적 적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아발달 욕구충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일상생활 문제해결을 위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비화폐적 서비스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서비스로도 불림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개별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예방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접근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다양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프로그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간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방문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건강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적 지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서비스 제공장소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사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보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기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욕구충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문제해결 원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접근도 제고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사회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위 유지를 위한 지원 기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사회적 서비스의 장애요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client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를 수치로 생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립생활 침해 우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제공자의 노인 이해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족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제공자 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에 대한 차별적 시각과 부정적 감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전달체계 요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보부재로 인한 전달체계와의 단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낮은 접근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용부담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그룹 8"/>
          <p:cNvGrpSpPr/>
          <p:nvPr/>
        </p:nvGrpSpPr>
        <p:grpSpPr>
          <a:xfrm>
            <a:off x="142920" y="139680"/>
            <a:ext cx="9001080" cy="6147000"/>
            <a:chOff x="142920" y="139680"/>
            <a:chExt cx="9001080" cy="6147000"/>
          </a:xfrm>
        </p:grpSpPr>
        <p:sp>
          <p:nvSpPr>
            <p:cNvPr id="570" name="AutoShape 4"/>
            <p:cNvSpPr/>
            <p:nvPr/>
          </p:nvSpPr>
          <p:spPr>
            <a:xfrm>
              <a:off x="214200" y="139680"/>
              <a:ext cx="4286160" cy="50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현행 사회서비스 체계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1" name="AutoShape 2"/>
            <p:cNvSpPr/>
            <p:nvPr/>
          </p:nvSpPr>
          <p:spPr>
            <a:xfrm>
              <a:off x="142920" y="1214280"/>
              <a:ext cx="8858520" cy="2814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2" name="Text Box 6"/>
            <p:cNvSpPr/>
            <p:nvPr/>
          </p:nvSpPr>
          <p:spPr>
            <a:xfrm>
              <a:off x="214200" y="1214280"/>
              <a:ext cx="8786880" cy="28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서비스는 서비스의 가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사회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설에서 제공하는 모든 비화폐적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내용으로는 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여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봉사 등의 여가와 사회참여 지원 서비스 포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장기요양보험 시행과 함께 재가노인복지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요양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야간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단기보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목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방문간호 등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는 건강보장 급여로 분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따라서 노인복지서비스는 노인돌봄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여가지원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평생교육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참여지원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권익보호서비스로 한정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3" name="직사각형 16"/>
            <p:cNvSpPr/>
            <p:nvPr/>
          </p:nvSpPr>
          <p:spPr>
            <a:xfrm>
              <a:off x="214200" y="78552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서비스의 범위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4" name="AutoShape 2"/>
            <p:cNvSpPr/>
            <p:nvPr/>
          </p:nvSpPr>
          <p:spPr>
            <a:xfrm>
              <a:off x="142920" y="4681800"/>
              <a:ext cx="8858520" cy="1604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5" name="Text Box 6"/>
            <p:cNvSpPr/>
            <p:nvPr/>
          </p:nvSpPr>
          <p:spPr>
            <a:xfrm>
              <a:off x="357120" y="4822920"/>
              <a:ext cx="8786880" cy="142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3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자립생활 영위가 어려운 노인과 독거노인에게 욕구에 따라 안전확인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생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연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활동 지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주간보호서비스 등의 맞춤서비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8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구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돌봄기본서비스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거노인응급안전알림서비스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가노인사랑잇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무연고 독거노인 장례지원서비스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거노인공동생활 홈서비스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독거노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3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사회관계 활성화사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돌봄종합서비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6" name="직사각형 19"/>
            <p:cNvSpPr/>
            <p:nvPr/>
          </p:nvSpPr>
          <p:spPr>
            <a:xfrm>
              <a:off x="214200" y="424656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돌봄서비스</a:t>
              </a:r>
              <a:r>
                <a:rPr b="0" lang="en-US" sz="22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그룹 1"/>
          <p:cNvGrpSpPr/>
          <p:nvPr/>
        </p:nvGrpSpPr>
        <p:grpSpPr>
          <a:xfrm>
            <a:off x="106200" y="-19080"/>
            <a:ext cx="8930160" cy="6612120"/>
            <a:chOff x="106200" y="-19080"/>
            <a:chExt cx="8930160" cy="6612120"/>
          </a:xfrm>
        </p:grpSpPr>
        <p:sp>
          <p:nvSpPr>
            <p:cNvPr id="578" name="AutoShape 2"/>
            <p:cNvSpPr/>
            <p:nvPr/>
          </p:nvSpPr>
          <p:spPr>
            <a:xfrm>
              <a:off x="356040" y="3071880"/>
              <a:ext cx="8643960" cy="9846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9" name="AutoShape 2"/>
            <p:cNvSpPr/>
            <p:nvPr/>
          </p:nvSpPr>
          <p:spPr>
            <a:xfrm>
              <a:off x="356040" y="428400"/>
              <a:ext cx="8643960" cy="2119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Text Box 6"/>
            <p:cNvSpPr/>
            <p:nvPr/>
          </p:nvSpPr>
          <p:spPr>
            <a:xfrm>
              <a:off x="356040" y="-19080"/>
              <a:ext cx="8572680" cy="263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돌봄기본서비스</a:t>
              </a:r>
              <a:r>
                <a:rPr b="0" lang="en-US" sz="20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독거노인의 안전확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연계 및 조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생활교육을 제공해 사회안전망 구축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대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수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양의무자 유무 등에 관계없이 홀로 사는 노인으로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상태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주거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접촉 등의 수준을 평가하여 서비스 욕구가 높은 노인 선정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방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례관리 방법 활용한 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.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황조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&gt;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욕구사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&gt;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개인별 서비스 계획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립 → 맞춤형 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안전확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생활교육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연계 및 조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공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인력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돌봄서비스 관리자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+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생활관리사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비용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무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급자 지원방식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AutoShape 2"/>
            <p:cNvSpPr/>
            <p:nvPr/>
          </p:nvSpPr>
          <p:spPr>
            <a:xfrm>
              <a:off x="213120" y="4462200"/>
              <a:ext cx="8786880" cy="21308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2" name="Text Box 6"/>
            <p:cNvSpPr/>
            <p:nvPr/>
          </p:nvSpPr>
          <p:spPr>
            <a:xfrm>
              <a:off x="284760" y="4005000"/>
              <a:ext cx="8644320" cy="256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 </a:t>
              </a:r>
              <a:r>
                <a:rPr b="0" lang="ko-KR" sz="20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독거노인공동생활 홈서비스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 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농촌지역 독거노인을 위해 마을회관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등을 개보수 신축하여 독거노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동생활을 지원함으로써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고독사 예방 및 취약한 주거화경 등의 문제 해소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도시지역 독거노인을 위해 주거지없거나 주거가 열악한 저소득 노인이 다가구 주택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등에서 공동생활할 수 있도록 임대료 지원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유형에 따라 안부확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서비스 연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밑반찬 배달 등 서비스 제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5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자체의 자체 운영 또는 조례 제정으로 실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3" name="직사각형 7"/>
            <p:cNvSpPr/>
            <p:nvPr/>
          </p:nvSpPr>
          <p:spPr>
            <a:xfrm>
              <a:off x="1792080" y="2700000"/>
              <a:ext cx="576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독거노인 응급안전알림서비스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사랑잇기서비스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무연고 독거노인 장례지원서비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4" name="Text Box 6"/>
            <p:cNvSpPr/>
            <p:nvPr/>
          </p:nvSpPr>
          <p:spPr>
            <a:xfrm>
              <a:off x="106200" y="3020040"/>
              <a:ext cx="8930160" cy="9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5092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 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응급안전알림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화재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활동감지센서 이용 응급구조 정보시스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 marL="25092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사랑잇기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;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공 및 민간콜센터 자원봉사자가 주 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2-3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회 안부확인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말벗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 marL="250920"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무연고 독거노인 장례지원서비스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생활관리사가 상주로서 최소한의 장례서비스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그룹 10"/>
          <p:cNvGrpSpPr/>
          <p:nvPr/>
        </p:nvGrpSpPr>
        <p:grpSpPr>
          <a:xfrm>
            <a:off x="214200" y="284040"/>
            <a:ext cx="8786880" cy="5742360"/>
            <a:chOff x="214200" y="284040"/>
            <a:chExt cx="8786880" cy="5742360"/>
          </a:xfrm>
        </p:grpSpPr>
        <p:sp>
          <p:nvSpPr>
            <p:cNvPr id="586" name="AutoShape 2"/>
            <p:cNvSpPr/>
            <p:nvPr/>
          </p:nvSpPr>
          <p:spPr>
            <a:xfrm>
              <a:off x="357120" y="731520"/>
              <a:ext cx="8643960" cy="1696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7" name="Text Box 6"/>
            <p:cNvSpPr/>
            <p:nvPr/>
          </p:nvSpPr>
          <p:spPr>
            <a:xfrm>
              <a:off x="356760" y="284040"/>
              <a:ext cx="8572680" cy="19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독거노인 사회관계 활성화 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8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목적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독거노인의 절친한 친구관계 형성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우울증 경감과 자살예방을 위한 상호돌봄체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구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8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집단유형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은둔형 고독사위험군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활동제한형 자살위험군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우울형 자살위험군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800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업내용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례괸리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우울증 진단과 투약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집단정신치료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집단활동 프로그램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자조모임</a:t>
              </a:r>
              <a:r>
                <a:rPr b="0" lang="en-US" sz="16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8"/>
            <p:cNvGrpSpPr/>
            <p:nvPr/>
          </p:nvGrpSpPr>
          <p:grpSpPr>
            <a:xfrm>
              <a:off x="214200" y="2796120"/>
              <a:ext cx="8786880" cy="3230280"/>
              <a:chOff x="214200" y="2796120"/>
              <a:chExt cx="8786880" cy="3230280"/>
            </a:xfrm>
          </p:grpSpPr>
          <p:sp>
            <p:nvSpPr>
              <p:cNvPr id="589" name="AutoShape 2"/>
              <p:cNvSpPr/>
              <p:nvPr/>
            </p:nvSpPr>
            <p:spPr>
              <a:xfrm>
                <a:off x="214200" y="3300120"/>
                <a:ext cx="8786880" cy="2721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0" name="Text Box 6"/>
              <p:cNvSpPr/>
              <p:nvPr/>
            </p:nvSpPr>
            <p:spPr>
              <a:xfrm>
                <a:off x="285480" y="2796120"/>
                <a:ext cx="8644320" cy="32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 </a:t>
                </a:r>
                <a:r>
                  <a:rPr b="0" lang="ko-KR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노인돌봄종합서비스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just">
                  <a:lnSpc>
                    <a:spcPct val="120000"/>
                  </a:lnSpc>
                  <a:spcBef>
                    <a:spcPts val="15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 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상생활을 영위하기 어려운 노인에게 가사지원 및 활동지원서비스를 제공하여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 algn="just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안정된 노후생활 보장과 가족의 사회경제적 활동기반 조성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 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서비스 대상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소득기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구 중위소득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160%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이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과 건강상태 기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장기요양 등급외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A, B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서비스 이용절차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신청 → 방문조사 → 서비스 대상 확정 → 개인별 서비스 계획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수립 → 이용 계약 체결 → 맞춤 방문서비스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야간보호서비스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단기가사서비스 등 이용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 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서비스 인력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돌보미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요양보호사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급 이상 자격 소지자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 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서비스 비용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소득수준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서비스 종류</a:t>
                </a:r>
                <a:r>
                  <a:rPr b="0" lang="en-US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이용일수와 시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소득에 따라 무료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정 금액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본인부담금 선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원금액은 전자식 바우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85%)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급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그룹 10"/>
          <p:cNvGrpSpPr/>
          <p:nvPr/>
        </p:nvGrpSpPr>
        <p:grpSpPr>
          <a:xfrm>
            <a:off x="142920" y="146160"/>
            <a:ext cx="8858160" cy="6171120"/>
            <a:chOff x="142920" y="146160"/>
            <a:chExt cx="8858160" cy="6171120"/>
          </a:xfrm>
        </p:grpSpPr>
        <p:grpSp>
          <p:nvGrpSpPr>
            <p:cNvPr id="592" name="그룹 12"/>
            <p:cNvGrpSpPr/>
            <p:nvPr/>
          </p:nvGrpSpPr>
          <p:grpSpPr>
            <a:xfrm>
              <a:off x="142920" y="642960"/>
              <a:ext cx="8858160" cy="500040"/>
              <a:chOff x="142920" y="642960"/>
              <a:chExt cx="8858160" cy="500040"/>
            </a:xfrm>
          </p:grpSpPr>
          <p:sp>
            <p:nvSpPr>
              <p:cNvPr id="593" name="AutoShape 2"/>
              <p:cNvSpPr/>
              <p:nvPr/>
            </p:nvSpPr>
            <p:spPr>
              <a:xfrm>
                <a:off x="142920" y="642960"/>
                <a:ext cx="8858160" cy="5000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4" name="Text Box 6"/>
              <p:cNvSpPr/>
              <p:nvPr/>
            </p:nvSpPr>
            <p:spPr>
              <a:xfrm>
                <a:off x="214200" y="714240"/>
                <a:ext cx="878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여가복지시설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경로당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관</a:t>
                </a:r>
                <a:r>
                  <a:rPr b="1" lang="en-US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1" lang="ko-KR" sz="20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교실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95" name="직사각형 3"/>
            <p:cNvSpPr/>
            <p:nvPr/>
          </p:nvSpPr>
          <p:spPr>
            <a:xfrm>
              <a:off x="142920" y="146160"/>
              <a:ext cx="6215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800" spc="-1" strike="noStrike">
                  <a:solidFill>
                    <a:srgbClr val="c00000"/>
                  </a:solidFill>
                  <a:latin typeface="Arial"/>
                </a:rPr>
                <a:t>여가 지원서비스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6" name="AutoShape 2"/>
            <p:cNvSpPr/>
            <p:nvPr/>
          </p:nvSpPr>
          <p:spPr>
            <a:xfrm>
              <a:off x="142920" y="1388880"/>
              <a:ext cx="8858160" cy="27478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7" name="Text Box 6"/>
            <p:cNvSpPr/>
            <p:nvPr/>
          </p:nvSpPr>
          <p:spPr>
            <a:xfrm>
              <a:off x="214200" y="1388880"/>
              <a:ext cx="8786880" cy="276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로당 활성화 사업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노인 친목도모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취미활동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동작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보교환 장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현황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6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천여 개소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규모시설과 재정열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편차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단순소일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운영지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난방연료비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월 운영비 지원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모범경로당 지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활성화사업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복지관과 연계하여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참여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교육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화정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 및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욕구평가 사업을실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정보센터와 학대노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킴이센터로서의 기능 수행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공동작업장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공동생활홈서비스 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경로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당순회프로그램지도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시군구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프로그램 지도 및 연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경로당 광역지원센터 운영 및 모범경로당 선정 지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8" name="AutoShape 2"/>
            <p:cNvSpPr/>
            <p:nvPr/>
          </p:nvSpPr>
          <p:spPr>
            <a:xfrm>
              <a:off x="142920" y="4291200"/>
              <a:ext cx="8858160" cy="1995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9" name="Text Box 6"/>
            <p:cNvSpPr/>
            <p:nvPr/>
          </p:nvSpPr>
          <p:spPr>
            <a:xfrm>
              <a:off x="214200" y="4318200"/>
              <a:ext cx="8786880" cy="19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관</a:t>
              </a:r>
              <a:r>
                <a:rPr b="1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의 교양ㆍ취미생활 및 사회참여활동 등에 대한 각종 정보와 서비스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공하고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 및 질병예방과 소득보장ㆍ재가복지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그 밖에 노인의 복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증진에 필요한 서비스를 제공함을 목적으로 하는 노인여가복지시설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시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연면적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500m2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상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무실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식당 및 조리실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상담실 또는 강당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프로그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화장실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물리치료실 또는 건강증진실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상재해대비시설 각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실 이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그룹 10"/>
          <p:cNvGrpSpPr/>
          <p:nvPr/>
        </p:nvGrpSpPr>
        <p:grpSpPr>
          <a:xfrm>
            <a:off x="142920" y="214200"/>
            <a:ext cx="8858160" cy="6069240"/>
            <a:chOff x="142920" y="214200"/>
            <a:chExt cx="8858160" cy="6069240"/>
          </a:xfrm>
        </p:grpSpPr>
        <p:sp>
          <p:nvSpPr>
            <p:cNvPr id="601" name="AutoShape 2"/>
            <p:cNvSpPr/>
            <p:nvPr/>
          </p:nvSpPr>
          <p:spPr>
            <a:xfrm>
              <a:off x="142920" y="214200"/>
              <a:ext cx="8858160" cy="3857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2" name="Text Box 6"/>
            <p:cNvSpPr/>
            <p:nvPr/>
          </p:nvSpPr>
          <p:spPr>
            <a:xfrm>
              <a:off x="214200" y="257040"/>
              <a:ext cx="8748720" cy="37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84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1" lang="ko-KR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관</a:t>
              </a:r>
              <a:r>
                <a:rPr b="1" lang="en-US" sz="24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사명과 비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b0d8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mission)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공적 노후생활 지원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6b0d8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 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전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vision)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한 노후를 위한 예방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케어 기반구축 및 확충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활동적인 노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를 위한 사회참여 여건조성 및 활성화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안정적 노후를 위한 소득보장의 다양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와 내실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원칙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문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립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책임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본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평생교육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취미여가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건강지원사업 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+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선택사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용 및 소득지원사업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복지연계사업 등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서비스 대상과 기능별 주요 사업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14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재정 및 인력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초자치단체 규모 등에 따라 차등지원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별도 인력배치 기준 없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3" name="그룹 5"/>
            <p:cNvGrpSpPr/>
            <p:nvPr/>
          </p:nvGrpSpPr>
          <p:grpSpPr>
            <a:xfrm>
              <a:off x="142920" y="4071960"/>
              <a:ext cx="8858160" cy="2211480"/>
              <a:chOff x="142920" y="4071960"/>
              <a:chExt cx="8858160" cy="2211480"/>
            </a:xfrm>
          </p:grpSpPr>
          <p:sp>
            <p:nvSpPr>
              <p:cNvPr id="604" name="직사각형 6"/>
              <p:cNvSpPr/>
              <p:nvPr/>
            </p:nvSpPr>
            <p:spPr>
              <a:xfrm>
                <a:off x="142920" y="407196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평생교육서비스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5" name="AutoShape 2"/>
              <p:cNvSpPr/>
              <p:nvPr/>
            </p:nvSpPr>
            <p:spPr>
              <a:xfrm>
                <a:off x="142920" y="4497480"/>
                <a:ext cx="8858160" cy="1785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6" name="Text Box 6"/>
              <p:cNvSpPr/>
              <p:nvPr/>
            </p:nvSpPr>
            <p:spPr>
              <a:xfrm>
                <a:off x="214200" y="4497480"/>
                <a:ext cx="878688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교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학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대학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경로대학 등으로 불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지부 등록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,356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미등록 운영하는 곳 많아 정확한 실태 파악 어려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운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주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도농간 편차 매우 크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취미 오락 위주 프로그램에 치중시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복지관은 우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문제점과 개선방안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 참조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그룹 21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grpSp>
          <p:nvGrpSpPr>
            <p:cNvPr id="608" name="그룹 8"/>
            <p:cNvGrpSpPr/>
            <p:nvPr/>
          </p:nvGrpSpPr>
          <p:grpSpPr>
            <a:xfrm>
              <a:off x="142920" y="142920"/>
              <a:ext cx="8858160" cy="3571920"/>
              <a:chOff x="142920" y="142920"/>
              <a:chExt cx="8858160" cy="3571920"/>
            </a:xfrm>
          </p:grpSpPr>
          <p:sp>
            <p:nvSpPr>
              <p:cNvPr id="609" name="직사각형 4"/>
              <p:cNvSpPr/>
              <p:nvPr/>
            </p:nvSpPr>
            <p:spPr>
              <a:xfrm>
                <a:off x="142920" y="14292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사회참여지원서비스</a:t>
                </a:r>
                <a:r>
                  <a:rPr b="0" lang="en-US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0" name="AutoShape 2"/>
              <p:cNvSpPr/>
              <p:nvPr/>
            </p:nvSpPr>
            <p:spPr>
              <a:xfrm>
                <a:off x="142920" y="525240"/>
                <a:ext cx="8858160" cy="3189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1" name="Text Box 6"/>
              <p:cNvSpPr/>
              <p:nvPr/>
            </p:nvSpPr>
            <p:spPr>
              <a:xfrm>
                <a:off x="214200" y="525240"/>
                <a:ext cx="8786880" cy="317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의 사회단체 참여율은 낮은 편으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6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에서 이미 논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활동지원은 노인 일거리 마련사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200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으로 시작하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200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일자리사업으로 편입되었으나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2007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노인자원봉사사업으로 재추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활동 지원 주요사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 클럽 지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단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 매뉴얼 개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 대축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단체간 협의회 운영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자원봉사 클럽은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-3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명 내외 구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월 운영비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만원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개월 이내 지원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이외에 노인 교통자원봉사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퇴직노인 봉사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기관의 자발적 노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원봉사단이 조직되어 활동 중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자원봉사활동 촉진 및 관리 방안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장 참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12" name="그룹 17"/>
            <p:cNvGrpSpPr/>
            <p:nvPr/>
          </p:nvGrpSpPr>
          <p:grpSpPr>
            <a:xfrm>
              <a:off x="142920" y="3786120"/>
              <a:ext cx="8858160" cy="2571840"/>
              <a:chOff x="142920" y="3786120"/>
              <a:chExt cx="8858160" cy="2571840"/>
            </a:xfrm>
          </p:grpSpPr>
          <p:sp>
            <p:nvSpPr>
              <p:cNvPr id="613" name="직사각형 18"/>
              <p:cNvSpPr/>
              <p:nvPr/>
            </p:nvSpPr>
            <p:spPr>
              <a:xfrm>
                <a:off x="142920" y="3786120"/>
                <a:ext cx="6215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재가노인지원서비스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4" name="AutoShape 2"/>
              <p:cNvSpPr/>
              <p:nvPr/>
            </p:nvSpPr>
            <p:spPr>
              <a:xfrm>
                <a:off x="142920" y="4211640"/>
                <a:ext cx="8858160" cy="2146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5" name="Text Box 6"/>
              <p:cNvSpPr/>
              <p:nvPr/>
            </p:nvSpPr>
            <p:spPr>
              <a:xfrm>
                <a:off x="214200" y="4211640"/>
                <a:ext cx="8786880" cy="21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기요양보험으로 중등도 이하 질병 앓는 노인을 위한 사회서비스 오히려 축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기요양급여 수급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장기요양등급외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기초수급자와 의존적 재가노인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서비스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 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ADL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서비스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정서지원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주거개선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여가지원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상담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지역자원개발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자원연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지원</a:t>
                </a:r>
                <a:r>
                  <a:rPr b="0" lang="en-US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3366"/>
                    </a:solidFill>
                    <a:latin typeface="HY강M"/>
                    <a:ea typeface="HY강M"/>
                  </a:rPr>
                  <a:t>긴급지원서비스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인력과 재정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복지사 등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자체 기준 의거 재정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농어촌 재가노인복지시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문요양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주간보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단기보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그룹 5"/>
          <p:cNvGrpSpPr/>
          <p:nvPr/>
        </p:nvGrpSpPr>
        <p:grpSpPr>
          <a:xfrm>
            <a:off x="142920" y="214200"/>
            <a:ext cx="8858160" cy="6023160"/>
            <a:chOff x="142920" y="214200"/>
            <a:chExt cx="8858160" cy="6023160"/>
          </a:xfrm>
        </p:grpSpPr>
        <p:sp>
          <p:nvSpPr>
            <p:cNvPr id="617" name="직사각형 1"/>
            <p:cNvSpPr/>
            <p:nvPr/>
          </p:nvSpPr>
          <p:spPr>
            <a:xfrm>
              <a:off x="142920" y="214200"/>
              <a:ext cx="6215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20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6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600" spc="-1" strike="noStrike">
                  <a:solidFill>
                    <a:srgbClr val="c00000"/>
                  </a:solidFill>
                  <a:latin typeface="Arial"/>
                </a:rPr>
                <a:t>노인권익보호서비스</a:t>
              </a:r>
              <a:r>
                <a:rPr b="0" lang="en-US" sz="26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8" name="AutoShape 2"/>
            <p:cNvSpPr/>
            <p:nvPr/>
          </p:nvSpPr>
          <p:spPr>
            <a:xfrm>
              <a:off x="142920" y="836640"/>
              <a:ext cx="8858160" cy="540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9" name="Text Box 6"/>
            <p:cNvSpPr/>
            <p:nvPr/>
          </p:nvSpPr>
          <p:spPr>
            <a:xfrm>
              <a:off x="214200" y="979200"/>
              <a:ext cx="8786880" cy="51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2004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 노인복지법 개정으로 긴급전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☏1577-1389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 설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중앙노인보호전문기관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 인권정책 제안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권 연구와 프로그램 개발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지역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 업무지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상담원 교육 및 대외협력사업 등 추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지역노인보호전문기관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신고전화 운영 및 사례접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현장조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피해노인 및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행위자 상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사례관리서비스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예방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효행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학대노인 쉼터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자살예방사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학대 지킴이단 운영 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보호전문기관의 사례관리서비스 절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1-4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학대피해노인 전용쉼터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대피해노인의 숙식제공 등 쉼터생활 지원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전문심리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상담 등의 치유프로그램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의료비 지원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학대행위자 상당 등 제공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원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5-9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 이하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소장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사회복지사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신보건전문요원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) 2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요양보호사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인 배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인권보호사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시설 인권보호 및 안전관리지침 시행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복지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2006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시설 운영자 및 종사자 인권교육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8)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국가인권위원회의 노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인권교육교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8)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및 노인 인권 길라잡이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4)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발간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인권지킴이단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노인복지중앙회 인권매뉴얼 발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09)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한국노인종합복지관협회의 노인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ombudsman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시범사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성년후견제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2013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년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7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월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그룹 6"/>
          <p:cNvGrpSpPr/>
          <p:nvPr/>
        </p:nvGrpSpPr>
        <p:grpSpPr>
          <a:xfrm>
            <a:off x="285840" y="71280"/>
            <a:ext cx="8643960" cy="6074280"/>
            <a:chOff x="285840" y="71280"/>
            <a:chExt cx="8643960" cy="6074280"/>
          </a:xfrm>
        </p:grpSpPr>
        <p:grpSp>
          <p:nvGrpSpPr>
            <p:cNvPr id="621" name="그룹 22"/>
            <p:cNvGrpSpPr/>
            <p:nvPr/>
          </p:nvGrpSpPr>
          <p:grpSpPr>
            <a:xfrm>
              <a:off x="285840" y="821160"/>
              <a:ext cx="8643960" cy="5324400"/>
              <a:chOff x="285840" y="821160"/>
              <a:chExt cx="8643960" cy="5324400"/>
            </a:xfrm>
          </p:grpSpPr>
          <p:sp>
            <p:nvSpPr>
              <p:cNvPr id="622" name="AutoShape 2"/>
              <p:cNvSpPr/>
              <p:nvPr/>
            </p:nvSpPr>
            <p:spPr>
              <a:xfrm>
                <a:off x="285840" y="821160"/>
                <a:ext cx="8643960" cy="5324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3" name="Text Box 6"/>
              <p:cNvSpPr/>
              <p:nvPr/>
            </p:nvSpPr>
            <p:spPr>
              <a:xfrm>
                <a:off x="500040" y="950040"/>
                <a:ext cx="8358480" cy="268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돌봄서비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업대상이 저소득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증질환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거노인에 국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부담 경감서비스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유사서비스와의 연계성 부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인력의 전문성과 업무부담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가족돌봄기능 지원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돌봄서비스간 연계와 통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인력 전문성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지원사업 전반의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시설부족과 낮은 접근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인력 및 프로그램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여가 인식증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인력 양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 다양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24" name="AutoShape 4"/>
            <p:cNvSpPr/>
            <p:nvPr/>
          </p:nvSpPr>
          <p:spPr>
            <a:xfrm>
              <a:off x="357120" y="71280"/>
              <a:ext cx="5214960" cy="599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사회서비스의 문제점과 과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25" name="Text Box 6"/>
            <p:cNvSpPr/>
            <p:nvPr/>
          </p:nvSpPr>
          <p:spPr>
            <a:xfrm>
              <a:off x="500040" y="3694320"/>
              <a:ext cx="8358480" cy="23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로당의 문제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시설기준과 운영지원 기준 낮아 동네 사랑방 역할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경로당활성화사업 확대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도자 리더십개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역자원연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관 운영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관간 편차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업의 편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복지관 및 분관 확대설치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업특성화 및 사회참여지원 사업 강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그룹 8"/>
          <p:cNvGrpSpPr/>
          <p:nvPr/>
        </p:nvGrpSpPr>
        <p:grpSpPr>
          <a:xfrm>
            <a:off x="71280" y="142920"/>
            <a:ext cx="8963280" cy="6666840"/>
            <a:chOff x="71280" y="142920"/>
            <a:chExt cx="8963280" cy="6666840"/>
          </a:xfrm>
        </p:grpSpPr>
        <p:grpSp>
          <p:nvGrpSpPr>
            <p:cNvPr id="627" name="그룹 12"/>
            <p:cNvGrpSpPr/>
            <p:nvPr/>
          </p:nvGrpSpPr>
          <p:grpSpPr>
            <a:xfrm>
              <a:off x="71280" y="5643720"/>
              <a:ext cx="7572600" cy="1166040"/>
              <a:chOff x="71280" y="5643720"/>
              <a:chExt cx="7572600" cy="1166040"/>
            </a:xfrm>
          </p:grpSpPr>
          <p:pic>
            <p:nvPicPr>
              <p:cNvPr id="628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71280" y="5643720"/>
                <a:ext cx="1000080" cy="89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9" name="Rectangle 4"/>
              <p:cNvSpPr/>
              <p:nvPr/>
            </p:nvSpPr>
            <p:spPr>
              <a:xfrm>
                <a:off x="856800" y="5786280"/>
                <a:ext cx="6787080" cy="10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 </a:t>
                </a:r>
                <a:r>
                  <a:rPr b="1" lang="ko-KR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4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8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 프로그램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30" name="그룹 22"/>
            <p:cNvGrpSpPr/>
            <p:nvPr/>
          </p:nvGrpSpPr>
          <p:grpSpPr>
            <a:xfrm>
              <a:off x="213840" y="142920"/>
              <a:ext cx="8820720" cy="5529960"/>
              <a:chOff x="213840" y="142920"/>
              <a:chExt cx="8820720" cy="5529960"/>
            </a:xfrm>
          </p:grpSpPr>
          <p:sp>
            <p:nvSpPr>
              <p:cNvPr id="631" name="AutoShape 2"/>
              <p:cNvSpPr/>
              <p:nvPr/>
            </p:nvSpPr>
            <p:spPr>
              <a:xfrm>
                <a:off x="213840" y="142920"/>
                <a:ext cx="8820720" cy="5529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2" name="Text Box 6"/>
              <p:cNvSpPr/>
              <p:nvPr/>
            </p:nvSpPr>
            <p:spPr>
              <a:xfrm>
                <a:off x="285120" y="357120"/>
                <a:ext cx="8748000" cy="358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평생교육의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도시편중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강사부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재원부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교육환경 미흡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법개정 통해 노인교실을 평생교육기관으로 재규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체계적 교육과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교재개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전문인력 양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교육기관간 유기적 협력 체계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참여 지원서비스 문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봉사인식부족 및 참여저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프로그램 및 지원체계 미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적 보상체계의 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성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봉사의식 제고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전문 프로그램 개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봉사 지도자 양성 및 봉사조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확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자적 관리체계 구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관의 체계적 노인봉사자 관리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자생적 봉사클럽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확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자리사업과의 차별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3" name="Text Box 6"/>
            <p:cNvSpPr/>
            <p:nvPr/>
          </p:nvSpPr>
          <p:spPr>
            <a:xfrm>
              <a:off x="285480" y="4000680"/>
              <a:ext cx="8749080" cy="15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권익보호서비스 문제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학대문제에 치중한 소극적 인권보호서비스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대안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법률 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·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개정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학술연구 및 프로그램 개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보호 전문기관의 기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확대 강화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인권보호서비스 강화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성년후견제도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인복지 옴부즈맨 프로그램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도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그룹 10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sp>
          <p:nvSpPr>
            <p:cNvPr id="442" name="AutoShape 2"/>
            <p:cNvSpPr/>
            <p:nvPr/>
          </p:nvSpPr>
          <p:spPr>
            <a:xfrm>
              <a:off x="142560" y="1285920"/>
              <a:ext cx="8858520" cy="24289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44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Rectangle 2"/>
            <p:cNvSpPr/>
            <p:nvPr/>
          </p:nvSpPr>
          <p:spPr>
            <a:xfrm>
              <a:off x="164304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소득보장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Text Box 25"/>
            <p:cNvSpPr/>
            <p:nvPr/>
          </p:nvSpPr>
          <p:spPr>
            <a:xfrm>
              <a:off x="142560" y="1369800"/>
              <a:ext cx="8929800" cy="22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빈곤문제의 예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을 위한 사회보장제도의 일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 등과 같은 국가의 직접적 소득이전 프로그램을 통하여 최저 한도 이상의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을 보장해주려는 사회적 노력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보장체계의 구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저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의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층구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보장 방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직접적 소득보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적보장체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간접적 소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장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용할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취업증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금감면혜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보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부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의 특성 비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1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AutoShape 4"/>
            <p:cNvSpPr/>
            <p:nvPr/>
          </p:nvSpPr>
          <p:spPr>
            <a:xfrm>
              <a:off x="214200" y="85716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소득보장의 이해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AutoShape 2"/>
            <p:cNvSpPr/>
            <p:nvPr/>
          </p:nvSpPr>
          <p:spPr>
            <a:xfrm>
              <a:off x="142560" y="485784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Text Box 25"/>
            <p:cNvSpPr/>
            <p:nvPr/>
          </p:nvSpPr>
          <p:spPr>
            <a:xfrm>
              <a:off x="142560" y="4857840"/>
              <a:ext cx="8929800" cy="13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감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실을 초래하는 사회적 위험들 중 노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장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망으로 발생하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제적 어려움에 대응하기 위한 사회대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현행제도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민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+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특수직역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무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군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립학교교직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적부조식 공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금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초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AutoShape 4"/>
            <p:cNvSpPr/>
            <p:nvPr/>
          </p:nvSpPr>
          <p:spPr>
            <a:xfrm>
              <a:off x="214200" y="392904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현행 소득보장체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0" name="직사각형 16"/>
            <p:cNvSpPr/>
            <p:nvPr/>
          </p:nvSpPr>
          <p:spPr>
            <a:xfrm>
              <a:off x="285480" y="4500720"/>
              <a:ext cx="62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연금제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그룹 10"/>
          <p:cNvGrpSpPr/>
          <p:nvPr/>
        </p:nvGrpSpPr>
        <p:grpSpPr>
          <a:xfrm>
            <a:off x="142920" y="214200"/>
            <a:ext cx="8929800" cy="6168600"/>
            <a:chOff x="142920" y="214200"/>
            <a:chExt cx="8929800" cy="6168600"/>
          </a:xfrm>
        </p:grpSpPr>
        <p:sp>
          <p:nvSpPr>
            <p:cNvPr id="452" name="AutoShape 2"/>
            <p:cNvSpPr/>
            <p:nvPr/>
          </p:nvSpPr>
          <p:spPr>
            <a:xfrm>
              <a:off x="142920" y="214200"/>
              <a:ext cx="8858520" cy="22143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3" name="Text Box 25"/>
            <p:cNvSpPr/>
            <p:nvPr/>
          </p:nvSpPr>
          <p:spPr>
            <a:xfrm>
              <a:off x="142920" y="250560"/>
              <a:ext cx="8715600" cy="21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국민연금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월소득의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9%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로 통일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종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령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장애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유족연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반환일시금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2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 현황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2017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337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6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천여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국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+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특수직역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),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노령연금 급여액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3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00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기초연금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격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 하위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70%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단독가구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37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이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부부가구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219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만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200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원 이하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buClr>
                  <a:srgbClr val="111f65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액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소득인정액과 가구형태에 따라 차등 지급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2018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노인의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67.1%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연금 수급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4" name="AutoShape 2"/>
            <p:cNvSpPr/>
            <p:nvPr/>
          </p:nvSpPr>
          <p:spPr>
            <a:xfrm>
              <a:off x="142920" y="292860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5" name="Text Box 25"/>
            <p:cNvSpPr/>
            <p:nvPr/>
          </p:nvSpPr>
          <p:spPr>
            <a:xfrm>
              <a:off x="142920" y="2928960"/>
              <a:ext cx="892980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활능력을 상실한 자와 일정 생활수준에 미달한 자에 대하여 국가가 최저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활보장과 자립촉진을 목적으로 한 경제적 보호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민기초생활보장제도의 내용 및 급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중위소득 기준의 맞춤형 급여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1-4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017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65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 이상 노인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43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백여명 수급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인구의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.9%,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체 수급권자의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8.9%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직사각형 6"/>
            <p:cNvSpPr/>
            <p:nvPr/>
          </p:nvSpPr>
          <p:spPr>
            <a:xfrm>
              <a:off x="285480" y="257148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공적 부조제도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AutoShape 2"/>
            <p:cNvSpPr/>
            <p:nvPr/>
          </p:nvSpPr>
          <p:spPr>
            <a:xfrm>
              <a:off x="142920" y="5000400"/>
              <a:ext cx="885852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Text Box 25"/>
            <p:cNvSpPr/>
            <p:nvPr/>
          </p:nvSpPr>
          <p:spPr>
            <a:xfrm>
              <a:off x="142920" y="5000760"/>
              <a:ext cx="8929800" cy="13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세에 의해 특정 인구집단을 대상으로 보편주의원칙에 의거하여 연금 또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서비스를 제공하는 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발달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제 등이 시행되었으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수당으로는 노인교통수당만 존재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008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년 기초연금제도에 통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재 일부 지자체 장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 수당 지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9" name="직사각형 9"/>
            <p:cNvSpPr/>
            <p:nvPr/>
          </p:nvSpPr>
          <p:spPr>
            <a:xfrm>
              <a:off x="285480" y="4630680"/>
              <a:ext cx="62150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5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100" spc="-1" strike="noStrike">
                  <a:solidFill>
                    <a:srgbClr val="c00000"/>
                  </a:solidFill>
                  <a:latin typeface="Arial"/>
                </a:rPr>
                <a:t>사회수당</a:t>
              </a:r>
              <a:endParaRPr b="0" lang="en-US" sz="21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그룹 7"/>
          <p:cNvGrpSpPr/>
          <p:nvPr/>
        </p:nvGrpSpPr>
        <p:grpSpPr>
          <a:xfrm>
            <a:off x="142920" y="142920"/>
            <a:ext cx="8858160" cy="6072120"/>
            <a:chOff x="142920" y="142920"/>
            <a:chExt cx="8858160" cy="6072120"/>
          </a:xfrm>
        </p:grpSpPr>
        <p:sp>
          <p:nvSpPr>
            <p:cNvPr id="461" name="AutoShape 2"/>
            <p:cNvSpPr/>
            <p:nvPr/>
          </p:nvSpPr>
          <p:spPr>
            <a:xfrm>
              <a:off x="142920" y="583920"/>
              <a:ext cx="8858160" cy="1987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2" name="Text Box 25"/>
            <p:cNvSpPr/>
            <p:nvPr/>
          </p:nvSpPr>
          <p:spPr>
            <a:xfrm>
              <a:off x="214200" y="642960"/>
              <a:ext cx="8786880" cy="19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저축 등 개인 스스로 노후소득 준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연금과 저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금융권에서 노후생활자금 목적으로 판매되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확한 현황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파악 안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연금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확정급여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확정기여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업퇴직계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퇴직계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입기업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7.2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입근로자는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0.2%.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총적립액은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67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조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00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억원이나 지속 증가추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3" name="직사각형 3"/>
            <p:cNvSpPr/>
            <p:nvPr/>
          </p:nvSpPr>
          <p:spPr>
            <a:xfrm>
              <a:off x="214200" y="14292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사적 소득보장체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4" name="AutoShape 2"/>
            <p:cNvSpPr/>
            <p:nvPr/>
          </p:nvSpPr>
          <p:spPr>
            <a:xfrm>
              <a:off x="142920" y="3370320"/>
              <a:ext cx="8858160" cy="2844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Text Box 25"/>
            <p:cNvSpPr/>
            <p:nvPr/>
          </p:nvSpPr>
          <p:spPr>
            <a:xfrm>
              <a:off x="214200" y="3517920"/>
              <a:ext cx="8786880" cy="24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 지출 경감을 통한 노후 소득보전방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80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도입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민간부문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89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년 폐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부문 시행 중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부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KTX 30%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철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고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박물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원 입장료 무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항공기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10%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여객선 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20%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할인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세금감면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상속세 및 증여세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천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득세 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양가족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로우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공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양도소득세 감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별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거 전환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자소득 및 배당소득 비과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천만원 이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결연사업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한국노인복지중앙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계좌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결연노인에게 후원금 전액 지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직사각형 6"/>
            <p:cNvSpPr/>
            <p:nvPr/>
          </p:nvSpPr>
          <p:spPr>
            <a:xfrm>
              <a:off x="214200" y="29289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경로우대제도 및 각종 감면혜택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그룹 5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sp>
          <p:nvSpPr>
            <p:cNvPr id="468" name="AutoShape 2"/>
            <p:cNvSpPr/>
            <p:nvPr/>
          </p:nvSpPr>
          <p:spPr>
            <a:xfrm>
              <a:off x="142920" y="571320"/>
              <a:ext cx="878688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69" name="그룹 10"/>
            <p:cNvGrpSpPr/>
            <p:nvPr/>
          </p:nvGrpSpPr>
          <p:grpSpPr>
            <a:xfrm>
              <a:off x="357120" y="142920"/>
              <a:ext cx="8643960" cy="5952960"/>
              <a:chOff x="357120" y="142920"/>
              <a:chExt cx="8643960" cy="5952960"/>
            </a:xfrm>
          </p:grpSpPr>
          <p:sp>
            <p:nvSpPr>
              <p:cNvPr id="470" name="AutoShape 4"/>
              <p:cNvSpPr/>
              <p:nvPr/>
            </p:nvSpPr>
            <p:spPr>
              <a:xfrm>
                <a:off x="357120" y="142920"/>
                <a:ext cx="50007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노후소득보장의 문제와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Text Box 6"/>
              <p:cNvSpPr/>
              <p:nvPr/>
            </p:nvSpPr>
            <p:spPr>
              <a:xfrm>
                <a:off x="499680" y="642960"/>
                <a:ext cx="8501400" cy="545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후소득보장의 역할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초연금 수급자 제외하면 현재 노인의 절반 이상이 공적 소득보장 급여 못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조세방식 기초연금제 확대하여 다층소득보장체계 구축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공적 부조제도 확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개인의 자발적 노후소득보장 노력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연금제도의 지속가능성과 안정적 노후소득보장 가능성의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저부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급여체계로 인해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50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대 중후반에 연금 기금 적자 및 고갈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령연금 급여액의 노후 생계비 보장의 한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부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저급여체계로 전환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금운용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험료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급여액 쟁점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민기초생활보장제도의 급여 대상과 수준의 제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위소득에 기준한 맞춤형 급여체계로 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5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 전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생계급여 선정 소득기준이 상대적으로 낮고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급여는 실 임대로 반영 못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합리적 중위소득 기준 마면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빈곤노인 기초생활 및 주거와 의료욕구 반영한 급여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접적 소득보장제도의 낮은 보조 수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급문화활동 감면혜택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세제감면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부모 부양수당 대상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자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운전 차량에 대한 비용 감면제도 도입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적 노후소득보장 노력 미흡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대안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퇴직연금 제도 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개인연금과 저축 활성화 방안 모색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그룹 16"/>
          <p:cNvGrpSpPr/>
          <p:nvPr/>
        </p:nvGrpSpPr>
        <p:grpSpPr>
          <a:xfrm>
            <a:off x="0" y="0"/>
            <a:ext cx="9144000" cy="6434640"/>
            <a:chOff x="0" y="0"/>
            <a:chExt cx="9144000" cy="6434640"/>
          </a:xfrm>
        </p:grpSpPr>
        <p:pic>
          <p:nvPicPr>
            <p:cNvPr id="473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고용보장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5" name="그룹 17"/>
            <p:cNvGrpSpPr/>
            <p:nvPr/>
          </p:nvGrpSpPr>
          <p:grpSpPr>
            <a:xfrm>
              <a:off x="323640" y="928440"/>
              <a:ext cx="8606160" cy="2357280"/>
              <a:chOff x="323640" y="928440"/>
              <a:chExt cx="8606160" cy="2357280"/>
            </a:xfrm>
          </p:grpSpPr>
          <p:sp>
            <p:nvSpPr>
              <p:cNvPr id="476" name="AutoShape 2"/>
              <p:cNvSpPr/>
              <p:nvPr/>
            </p:nvSpPr>
            <p:spPr>
              <a:xfrm>
                <a:off x="323640" y="1364760"/>
                <a:ext cx="8606160" cy="1920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7" name="Text Box 25"/>
              <p:cNvSpPr/>
              <p:nvPr/>
            </p:nvSpPr>
            <p:spPr>
              <a:xfrm>
                <a:off x="394920" y="1428480"/>
                <a:ext cx="8534880" cy="181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가 고용에 관한 정책을 시행하여 국민의 능력을 최대로 개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게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시장 효율성 제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력의 수급균형을 도모하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근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 지위의 향상을 도모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고용보장정책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정책기본법에 의한 고용보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재보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직업능력개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금근로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안전보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평등 중에서 노인복지분야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취업촉진대책이 주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8" name="AutoShape 4"/>
              <p:cNvSpPr/>
              <p:nvPr/>
            </p:nvSpPr>
            <p:spPr>
              <a:xfrm>
                <a:off x="394920" y="92844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고용보장의 이해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79" name="그룹 17"/>
            <p:cNvGrpSpPr/>
            <p:nvPr/>
          </p:nvGrpSpPr>
          <p:grpSpPr>
            <a:xfrm>
              <a:off x="323640" y="3425760"/>
              <a:ext cx="8606160" cy="1142640"/>
              <a:chOff x="323640" y="3425760"/>
              <a:chExt cx="8606160" cy="1142640"/>
            </a:xfrm>
          </p:grpSpPr>
          <p:sp>
            <p:nvSpPr>
              <p:cNvPr id="480" name="AutoShape 2"/>
              <p:cNvSpPr/>
              <p:nvPr/>
            </p:nvSpPr>
            <p:spPr>
              <a:xfrm>
                <a:off x="323640" y="3861720"/>
                <a:ext cx="8606160" cy="706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Text Box 25"/>
              <p:cNvSpPr/>
              <p:nvPr/>
            </p:nvSpPr>
            <p:spPr>
              <a:xfrm>
                <a:off x="394920" y="3925800"/>
                <a:ext cx="8534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행 고용보장제도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고용촉진법에 의한 고용촉진대책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한 노인취업 지원사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2" name="AutoShape 4"/>
              <p:cNvSpPr/>
              <p:nvPr/>
            </p:nvSpPr>
            <p:spPr>
              <a:xfrm>
                <a:off x="394920" y="342576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현행 고용보장체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83" name="그룹 17"/>
            <p:cNvGrpSpPr/>
            <p:nvPr/>
          </p:nvGrpSpPr>
          <p:grpSpPr>
            <a:xfrm>
              <a:off x="357120" y="5000400"/>
              <a:ext cx="8786880" cy="1434240"/>
              <a:chOff x="357120" y="5000400"/>
              <a:chExt cx="8786880" cy="1434240"/>
            </a:xfrm>
          </p:grpSpPr>
          <p:sp>
            <p:nvSpPr>
              <p:cNvPr id="484" name="AutoShape 2"/>
              <p:cNvSpPr/>
              <p:nvPr/>
            </p:nvSpPr>
            <p:spPr>
              <a:xfrm>
                <a:off x="357120" y="5004360"/>
                <a:ext cx="8606160" cy="1424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Text Box 25"/>
              <p:cNvSpPr/>
              <p:nvPr/>
            </p:nvSpPr>
            <p:spPr>
              <a:xfrm>
                <a:off x="428400" y="5000400"/>
                <a:ext cx="8715600" cy="143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고용촉진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자 등의 고용연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자리지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년과 연령차별금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 고령자 고용촉진 기본계획 수립 추진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비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을 통해 활력 있는 장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목표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평생직업생활 준비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숙련유지 및 향상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일자리 기회확대</a:t>
                </a:r>
                <a:r>
                  <a:rPr b="0" lang="en-US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사회 대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25"/>
            <p:cNvSpPr/>
            <p:nvPr/>
          </p:nvSpPr>
          <p:spPr>
            <a:xfrm>
              <a:off x="428400" y="4643640"/>
              <a:ext cx="61596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고령자고용촉진법에 의한 장년고용서비스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그룹 1"/>
          <p:cNvGrpSpPr/>
          <p:nvPr/>
        </p:nvGrpSpPr>
        <p:grpSpPr>
          <a:xfrm>
            <a:off x="324000" y="333360"/>
            <a:ext cx="8715240" cy="5975280"/>
            <a:chOff x="324000" y="333360"/>
            <a:chExt cx="8715240" cy="5975280"/>
          </a:xfrm>
        </p:grpSpPr>
        <p:grpSp>
          <p:nvGrpSpPr>
            <p:cNvPr id="488" name="그룹 17"/>
            <p:cNvGrpSpPr/>
            <p:nvPr/>
          </p:nvGrpSpPr>
          <p:grpSpPr>
            <a:xfrm>
              <a:off x="324000" y="817200"/>
              <a:ext cx="8715240" cy="5491440"/>
              <a:chOff x="324000" y="817200"/>
              <a:chExt cx="8715240" cy="5491440"/>
            </a:xfrm>
          </p:grpSpPr>
          <p:sp>
            <p:nvSpPr>
              <p:cNvPr id="489" name="AutoShape 2"/>
              <p:cNvSpPr/>
              <p:nvPr/>
            </p:nvSpPr>
            <p:spPr>
              <a:xfrm>
                <a:off x="324000" y="817200"/>
                <a:ext cx="8605800" cy="5491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Text Box 25"/>
              <p:cNvSpPr/>
              <p:nvPr/>
            </p:nvSpPr>
            <p:spPr>
              <a:xfrm>
                <a:off x="504720" y="858240"/>
                <a:ext cx="8534520" cy="537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평생직업생활 준비 지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애경력개발서비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력진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진로설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력관리 계획 수립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직지원서비스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직스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창업정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담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년친화적 노동시장 조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60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세 정년제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장년근로시간단축제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고용연장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원금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일터혁신컨설팅 서비스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세부 내용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96-297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취업지원서비스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취업성공패키지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취업단계에 따른 맞춤형 취업지원서비스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신중년 적합직무 고용창출 장려금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세부 내용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97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숙련유지 및 행상 지원서비스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내일배움카드제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국가기간 전략산업 훈련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폴리텍 대학 베이비부머 양성훈련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세부 내용 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97-398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새로운 일하기 지원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신중년 사회공헌활동 지원사업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시니어 창업지원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귀농귀촌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종합센터 운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적 기업 설립지원 사업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세부 내용 교재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398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장년고용서비스기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고용센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중장년일자리희망센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성새로일하기센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자제의 장년지원센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(50+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센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생이모작지원센터 등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세부 내용 교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99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1" name="직사각형 4"/>
            <p:cNvSpPr/>
            <p:nvPr/>
          </p:nvSpPr>
          <p:spPr>
            <a:xfrm>
              <a:off x="395280" y="333360"/>
              <a:ext cx="70246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고령자고용촉진법에 의한 장년고용서비스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그룹 8"/>
          <p:cNvGrpSpPr/>
          <p:nvPr/>
        </p:nvGrpSpPr>
        <p:grpSpPr>
          <a:xfrm>
            <a:off x="214200" y="154080"/>
            <a:ext cx="8715600" cy="6024600"/>
            <a:chOff x="214200" y="154080"/>
            <a:chExt cx="8715600" cy="6024600"/>
          </a:xfrm>
        </p:grpSpPr>
        <p:grpSp>
          <p:nvGrpSpPr>
            <p:cNvPr id="493" name="그룹 17"/>
            <p:cNvGrpSpPr/>
            <p:nvPr/>
          </p:nvGrpSpPr>
          <p:grpSpPr>
            <a:xfrm>
              <a:off x="214200" y="637920"/>
              <a:ext cx="8715600" cy="5540760"/>
              <a:chOff x="214200" y="637920"/>
              <a:chExt cx="8715600" cy="5540760"/>
            </a:xfrm>
          </p:grpSpPr>
          <p:sp>
            <p:nvSpPr>
              <p:cNvPr id="494" name="AutoShape 2"/>
              <p:cNvSpPr/>
              <p:nvPr/>
            </p:nvSpPr>
            <p:spPr>
              <a:xfrm>
                <a:off x="214200" y="637920"/>
                <a:ext cx="8606160" cy="554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5" name="Text Box 25"/>
              <p:cNvSpPr/>
              <p:nvPr/>
            </p:nvSpPr>
            <p:spPr>
              <a:xfrm>
                <a:off x="394920" y="678960"/>
                <a:ext cx="8534880" cy="542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취업알선기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노인회 노인취업지원센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취업상담과 알선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참여 활동 연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로당 공동작업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순 작업과 지역특산물 생산 위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인력개발기관과 노인일자리지원기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인력개발기관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한국노인인력개발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일자리개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조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교육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협력사업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니어클럽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주로 시장형 일자리 사업 추진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2018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년 현재 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148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개소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 사회활동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일자리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지원 사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목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일자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재능 나눔 등을 통한 적극적 사회참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소득보전 등을 통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문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예방과 노인복지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65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세 이상의 신청자 중에서 연령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일자리사업 참여 등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평가하여 선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업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사회활동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공익활동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재능 나눔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)+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노인일자리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회서비스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장형 사업단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인력파견형 사업단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니어인턴십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고령자친화기업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기업연계형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 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근무조건과 보수지원 수준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1-7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496" name="직사각형 4"/>
            <p:cNvSpPr/>
            <p:nvPr/>
          </p:nvSpPr>
          <p:spPr>
            <a:xfrm>
              <a:off x="285480" y="15408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복지법에 의한 고용보장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19:15:22Z</dcterms:modified>
  <cp:revision>403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